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5CF8-BA6E-4EBA-98A6-2B170B1C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6EA0C-0594-4C90-859F-208982C3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47C0A-A1E3-4D42-9583-2C39C1BA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0E68-D2C1-4CEA-9CF7-03E520FB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263F-CE89-4274-B6D6-EAC5BCFB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7497-C067-49DD-94F2-3AF4B032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B3E4-9242-4D80-A99B-02EFAF78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8A7B-EAB7-4333-92FA-404EE9B0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AB76-8959-4531-83AE-ED37CD77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93AD-BC49-4BE0-8A3B-36E87B20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2E09-619F-4DC6-AAA5-98FA408C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86B5B-245A-4A28-9AA4-9B7F40BA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555F-59AC-415B-9560-C789C670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A8A4-8A5B-48B1-AF1E-D2E5346A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20C4-8504-4FF1-B360-1C682D73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D59D-2ECD-4BD8-BD23-DD8E2275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7D41-8EF4-4F72-A748-DA9289DB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8BBB7-581C-49EC-8C4B-C996FB9F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7165-8FEA-4A00-8B1D-21CC5C53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0B0A5-AB19-4CC0-8286-94C63D1E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8DFD-E50A-4176-8104-121F95ED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C831D-68F8-4FE8-A4FD-F79BDF76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95B9C-C28A-4F1F-AADB-B8A60E5D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C91B-A90E-4EEF-B10B-53C41922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4474-7F08-4238-A567-892BC014DA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DD55-C7C9-4E74-AE36-39CE6B42A0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word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word cipher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15240" y="2967120"/>
            <a:ext cx="64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 select a keyword - if any letters are repeated drop the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all other occurrences from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0880" y="4222800"/>
            <a:ext cx="62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 write the keyword below the alphabet, fill in the res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ce with the remaining letters in the alphabet in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F763B-321C-44C3-A37E-8A340B8080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62760" y="3560760"/>
            <a:ext cx="7930080" cy="425160"/>
            <a:chOff x="662760" y="3560760"/>
            <a:chExt cx="7930080" cy="425160"/>
          </a:xfrm>
        </p:grpSpPr>
        <p:grpSp>
          <p:nvGrpSpPr>
            <p:cNvPr id="120" name=""/>
            <p:cNvGrpSpPr/>
            <p:nvPr/>
          </p:nvGrpSpPr>
          <p:grpSpPr>
            <a:xfrm>
              <a:off x="1633320" y="3560760"/>
              <a:ext cx="333000" cy="368280"/>
              <a:chOff x="1633320" y="3560760"/>
              <a:chExt cx="333000" cy="368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6380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333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900080" y="3560760"/>
              <a:ext cx="333000" cy="368280"/>
              <a:chOff x="1900080" y="3560760"/>
              <a:chExt cx="333000" cy="368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904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000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166840" y="3560760"/>
              <a:ext cx="345240" cy="368280"/>
              <a:chOff x="2166840" y="3560760"/>
              <a:chExt cx="345240" cy="3682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711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6684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433600" y="3560760"/>
              <a:ext cx="345240" cy="368280"/>
              <a:chOff x="2433600" y="3560760"/>
              <a:chExt cx="345240" cy="368280"/>
            </a:xfrm>
          </p:grpSpPr>
          <p:sp>
            <p:nvSpPr>
              <p:cNvPr id="130" name=""/>
              <p:cNvSpPr/>
              <p:nvPr/>
            </p:nvSpPr>
            <p:spPr>
              <a:xfrm>
                <a:off x="2437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336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690640" y="3560760"/>
              <a:ext cx="333000" cy="368280"/>
              <a:chOff x="2690640" y="3560760"/>
              <a:chExt cx="333000" cy="36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6953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906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957040" y="3560760"/>
              <a:ext cx="320760" cy="368280"/>
              <a:chOff x="2957040" y="3560760"/>
              <a:chExt cx="320760" cy="36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9620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570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223800" y="3560760"/>
              <a:ext cx="358920" cy="368280"/>
              <a:chOff x="3223800" y="3560760"/>
              <a:chExt cx="358920" cy="36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32284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2380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490920" y="3560760"/>
              <a:ext cx="345240" cy="368280"/>
              <a:chOff x="3490920" y="3560760"/>
              <a:chExt cx="345240" cy="36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34952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909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6960" y="3560760"/>
              <a:ext cx="271440" cy="368280"/>
              <a:chOff x="3756960" y="3560760"/>
              <a:chExt cx="271440" cy="36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620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56960" y="35607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023720" y="3560760"/>
              <a:ext cx="295200" cy="368280"/>
              <a:chOff x="4023720" y="3560760"/>
              <a:chExt cx="295200" cy="368280"/>
            </a:xfrm>
          </p:grpSpPr>
          <p:sp>
            <p:nvSpPr>
              <p:cNvPr id="148" name=""/>
              <p:cNvSpPr/>
              <p:nvPr/>
            </p:nvSpPr>
            <p:spPr>
              <a:xfrm>
                <a:off x="4028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023720" y="35607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290840" y="3560760"/>
              <a:ext cx="333000" cy="368280"/>
              <a:chOff x="4290840" y="3560760"/>
              <a:chExt cx="333000" cy="368280"/>
            </a:xfrm>
          </p:grpSpPr>
          <p:sp>
            <p:nvSpPr>
              <p:cNvPr id="151" name=""/>
              <p:cNvSpPr/>
              <p:nvPr/>
            </p:nvSpPr>
            <p:spPr>
              <a:xfrm>
                <a:off x="4295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90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557600" y="3560760"/>
              <a:ext cx="307080" cy="368280"/>
              <a:chOff x="4557600" y="3560760"/>
              <a:chExt cx="307080" cy="368280"/>
            </a:xfrm>
          </p:grpSpPr>
          <p:sp>
            <p:nvSpPr>
              <p:cNvPr id="154" name=""/>
              <p:cNvSpPr/>
              <p:nvPr/>
            </p:nvSpPr>
            <p:spPr>
              <a:xfrm>
                <a:off x="4561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57600" y="356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824360" y="3560760"/>
              <a:ext cx="371160" cy="368280"/>
              <a:chOff x="4824360" y="3560760"/>
              <a:chExt cx="371160" cy="368280"/>
            </a:xfrm>
          </p:grpSpPr>
          <p:sp>
            <p:nvSpPr>
              <p:cNvPr id="157" name=""/>
              <p:cNvSpPr/>
              <p:nvPr/>
            </p:nvSpPr>
            <p:spPr>
              <a:xfrm>
                <a:off x="482904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24360" y="356076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091120" y="3560760"/>
              <a:ext cx="345240" cy="368280"/>
              <a:chOff x="5091120" y="3560760"/>
              <a:chExt cx="345240" cy="368280"/>
            </a:xfrm>
          </p:grpSpPr>
          <p:sp>
            <p:nvSpPr>
              <p:cNvPr id="160" name=""/>
              <p:cNvSpPr/>
              <p:nvPr/>
            </p:nvSpPr>
            <p:spPr>
              <a:xfrm>
                <a:off x="50954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911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357520" y="3560760"/>
              <a:ext cx="358920" cy="368280"/>
              <a:chOff x="5357520" y="3560760"/>
              <a:chExt cx="358920" cy="368280"/>
            </a:xfrm>
          </p:grpSpPr>
          <p:sp>
            <p:nvSpPr>
              <p:cNvPr id="163" name=""/>
              <p:cNvSpPr/>
              <p:nvPr/>
            </p:nvSpPr>
            <p:spPr>
              <a:xfrm>
                <a:off x="5362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35752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24280" y="3560760"/>
              <a:ext cx="333000" cy="368280"/>
              <a:chOff x="5624280" y="3560760"/>
              <a:chExt cx="333000" cy="368280"/>
            </a:xfrm>
          </p:grpSpPr>
          <p:sp>
            <p:nvSpPr>
              <p:cNvPr id="166" name=""/>
              <p:cNvSpPr/>
              <p:nvPr/>
            </p:nvSpPr>
            <p:spPr>
              <a:xfrm>
                <a:off x="56289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242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890680" y="3560760"/>
              <a:ext cx="358920" cy="368280"/>
              <a:chOff x="5890680" y="3560760"/>
              <a:chExt cx="358920" cy="368280"/>
            </a:xfrm>
          </p:grpSpPr>
          <p:sp>
            <p:nvSpPr>
              <p:cNvPr id="169" name=""/>
              <p:cNvSpPr/>
              <p:nvPr/>
            </p:nvSpPr>
            <p:spPr>
              <a:xfrm>
                <a:off x="58957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9068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157800" y="3560760"/>
              <a:ext cx="345240" cy="368280"/>
              <a:chOff x="6157800" y="3560760"/>
              <a:chExt cx="345240" cy="368280"/>
            </a:xfrm>
          </p:grpSpPr>
          <p:sp>
            <p:nvSpPr>
              <p:cNvPr id="172" name=""/>
              <p:cNvSpPr/>
              <p:nvPr/>
            </p:nvSpPr>
            <p:spPr>
              <a:xfrm>
                <a:off x="61621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578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414840" y="3560760"/>
              <a:ext cx="333000" cy="368280"/>
              <a:chOff x="6414840" y="3560760"/>
              <a:chExt cx="333000" cy="368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419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14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681240" y="3560760"/>
              <a:ext cx="320760" cy="368280"/>
              <a:chOff x="6681240" y="3560760"/>
              <a:chExt cx="320760" cy="368280"/>
            </a:xfrm>
          </p:grpSpPr>
          <p:sp>
            <p:nvSpPr>
              <p:cNvPr id="178" name=""/>
              <p:cNvSpPr/>
              <p:nvPr/>
            </p:nvSpPr>
            <p:spPr>
              <a:xfrm>
                <a:off x="66862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812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948360" y="3560760"/>
              <a:ext cx="345240" cy="368280"/>
              <a:chOff x="6948360" y="3560760"/>
              <a:chExt cx="345240" cy="36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69526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4836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215120" y="3560760"/>
              <a:ext cx="333000" cy="368280"/>
              <a:chOff x="7215120" y="3560760"/>
              <a:chExt cx="333000" cy="36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72198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151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481520" y="3560760"/>
              <a:ext cx="397080" cy="368280"/>
              <a:chOff x="7481520" y="3560760"/>
              <a:chExt cx="397080" cy="36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7486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81520" y="356076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738920" y="3560760"/>
              <a:ext cx="333000" cy="368280"/>
              <a:chOff x="7738920" y="3560760"/>
              <a:chExt cx="333000" cy="36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77436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389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8005680" y="3560760"/>
              <a:ext cx="333000" cy="368280"/>
              <a:chOff x="8005680" y="3560760"/>
              <a:chExt cx="333000" cy="36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80103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0056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8272080" y="3560760"/>
              <a:ext cx="320760" cy="368280"/>
              <a:chOff x="8272080" y="3560760"/>
              <a:chExt cx="320760" cy="368280"/>
            </a:xfrm>
          </p:grpSpPr>
          <p:sp>
            <p:nvSpPr>
              <p:cNvPr id="196" name=""/>
              <p:cNvSpPr/>
              <p:nvPr/>
            </p:nvSpPr>
            <p:spPr>
              <a:xfrm>
                <a:off x="82767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7208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662760" y="361764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58000" y="38466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62200" y="3836880"/>
            <a:ext cx="320760" cy="368280"/>
            <a:chOff x="2662200" y="3836880"/>
            <a:chExt cx="320760" cy="368280"/>
          </a:xfrm>
        </p:grpSpPr>
        <p:sp>
          <p:nvSpPr>
            <p:cNvPr id="201" name=""/>
            <p:cNvSpPr/>
            <p:nvPr/>
          </p:nvSpPr>
          <p:spPr>
            <a:xfrm>
              <a:off x="2676240" y="392436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220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948040" y="3836880"/>
            <a:ext cx="333000" cy="368280"/>
            <a:chOff x="2948040" y="3836880"/>
            <a:chExt cx="333000" cy="368280"/>
          </a:xfrm>
        </p:grpSpPr>
        <p:sp>
          <p:nvSpPr>
            <p:cNvPr id="204" name=""/>
            <p:cNvSpPr/>
            <p:nvPr/>
          </p:nvSpPr>
          <p:spPr>
            <a:xfrm>
              <a:off x="296064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48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214800" y="3836880"/>
            <a:ext cx="333000" cy="368280"/>
            <a:chOff x="3214800" y="3836880"/>
            <a:chExt cx="333000" cy="368280"/>
          </a:xfrm>
        </p:grpSpPr>
        <p:sp>
          <p:nvSpPr>
            <p:cNvPr id="207" name=""/>
            <p:cNvSpPr/>
            <p:nvPr/>
          </p:nvSpPr>
          <p:spPr>
            <a:xfrm>
              <a:off x="322740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1480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481560" y="3836880"/>
            <a:ext cx="345240" cy="368280"/>
            <a:chOff x="3481560" y="3836880"/>
            <a:chExt cx="345240" cy="368280"/>
          </a:xfrm>
        </p:grpSpPr>
        <p:sp>
          <p:nvSpPr>
            <p:cNvPr id="210" name=""/>
            <p:cNvSpPr/>
            <p:nvPr/>
          </p:nvSpPr>
          <p:spPr>
            <a:xfrm>
              <a:off x="349380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815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748320" y="3836880"/>
            <a:ext cx="333000" cy="368280"/>
            <a:chOff x="3748320" y="3836880"/>
            <a:chExt cx="333000" cy="368280"/>
          </a:xfrm>
        </p:grpSpPr>
        <p:sp>
          <p:nvSpPr>
            <p:cNvPr id="213" name=""/>
            <p:cNvSpPr/>
            <p:nvPr/>
          </p:nvSpPr>
          <p:spPr>
            <a:xfrm>
              <a:off x="37612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483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81480" y="3836880"/>
            <a:ext cx="358920" cy="368280"/>
            <a:chOff x="4281480" y="3836880"/>
            <a:chExt cx="358920" cy="368280"/>
          </a:xfrm>
        </p:grpSpPr>
        <p:sp>
          <p:nvSpPr>
            <p:cNvPr id="216" name=""/>
            <p:cNvSpPr/>
            <p:nvPr/>
          </p:nvSpPr>
          <p:spPr>
            <a:xfrm>
              <a:off x="42948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14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014720" y="3836880"/>
            <a:ext cx="320760" cy="368280"/>
            <a:chOff x="4014720" y="3836880"/>
            <a:chExt cx="320760" cy="368280"/>
          </a:xfrm>
        </p:grpSpPr>
        <p:sp>
          <p:nvSpPr>
            <p:cNvPr id="219" name=""/>
            <p:cNvSpPr/>
            <p:nvPr/>
          </p:nvSpPr>
          <p:spPr>
            <a:xfrm>
              <a:off x="402804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1472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814640" y="3836880"/>
            <a:ext cx="271440" cy="368280"/>
            <a:chOff x="4814640" y="3836880"/>
            <a:chExt cx="271440" cy="368280"/>
          </a:xfrm>
        </p:grpSpPr>
        <p:sp>
          <p:nvSpPr>
            <p:cNvPr id="222" name=""/>
            <p:cNvSpPr/>
            <p:nvPr/>
          </p:nvSpPr>
          <p:spPr>
            <a:xfrm>
              <a:off x="48279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4640" y="38368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548600" y="3836880"/>
            <a:ext cx="345240" cy="368280"/>
            <a:chOff x="4548600" y="3836880"/>
            <a:chExt cx="345240" cy="368280"/>
          </a:xfrm>
        </p:grpSpPr>
        <p:sp>
          <p:nvSpPr>
            <p:cNvPr id="225" name=""/>
            <p:cNvSpPr/>
            <p:nvPr/>
          </p:nvSpPr>
          <p:spPr>
            <a:xfrm>
              <a:off x="4561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86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48520" y="3836880"/>
            <a:ext cx="333000" cy="368280"/>
            <a:chOff x="5348520" y="3836880"/>
            <a:chExt cx="333000" cy="368280"/>
          </a:xfrm>
        </p:grpSpPr>
        <p:sp>
          <p:nvSpPr>
            <p:cNvPr id="228" name=""/>
            <p:cNvSpPr/>
            <p:nvPr/>
          </p:nvSpPr>
          <p:spPr>
            <a:xfrm>
              <a:off x="53614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485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081400" y="3836880"/>
            <a:ext cx="295200" cy="368280"/>
            <a:chOff x="5081400" y="3836880"/>
            <a:chExt cx="295200" cy="368280"/>
          </a:xfrm>
        </p:grpSpPr>
        <p:sp>
          <p:nvSpPr>
            <p:cNvPr id="231" name=""/>
            <p:cNvSpPr/>
            <p:nvPr/>
          </p:nvSpPr>
          <p:spPr>
            <a:xfrm>
              <a:off x="509472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81400" y="3836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881680" y="3836880"/>
            <a:ext cx="371160" cy="368280"/>
            <a:chOff x="5881680" y="3836880"/>
            <a:chExt cx="371160" cy="368280"/>
          </a:xfrm>
        </p:grpSpPr>
        <p:sp>
          <p:nvSpPr>
            <p:cNvPr id="234" name=""/>
            <p:cNvSpPr/>
            <p:nvPr/>
          </p:nvSpPr>
          <p:spPr>
            <a:xfrm>
              <a:off x="58950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81680" y="38368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15280" y="3836880"/>
            <a:ext cx="307080" cy="368280"/>
            <a:chOff x="5615280" y="3836880"/>
            <a:chExt cx="307080" cy="368280"/>
          </a:xfrm>
        </p:grpSpPr>
        <p:sp>
          <p:nvSpPr>
            <p:cNvPr id="237" name=""/>
            <p:cNvSpPr/>
            <p:nvPr/>
          </p:nvSpPr>
          <p:spPr>
            <a:xfrm>
              <a:off x="5628240" y="3924000"/>
              <a:ext cx="25740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15280" y="383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14840" y="3836880"/>
            <a:ext cx="358920" cy="368280"/>
            <a:chOff x="6414840" y="3836880"/>
            <a:chExt cx="358920" cy="368280"/>
          </a:xfrm>
        </p:grpSpPr>
        <p:sp>
          <p:nvSpPr>
            <p:cNvPr id="240" name=""/>
            <p:cNvSpPr/>
            <p:nvPr/>
          </p:nvSpPr>
          <p:spPr>
            <a:xfrm>
              <a:off x="64281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1484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148440" y="3836880"/>
            <a:ext cx="333000" cy="368280"/>
            <a:chOff x="6148440" y="3836880"/>
            <a:chExt cx="333000" cy="368280"/>
          </a:xfrm>
        </p:grpSpPr>
        <p:sp>
          <p:nvSpPr>
            <p:cNvPr id="243" name=""/>
            <p:cNvSpPr/>
            <p:nvPr/>
          </p:nvSpPr>
          <p:spPr>
            <a:xfrm>
              <a:off x="6161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484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948720" y="3836880"/>
            <a:ext cx="333000" cy="368280"/>
            <a:chOff x="6948720" y="3836880"/>
            <a:chExt cx="333000" cy="368280"/>
          </a:xfrm>
        </p:grpSpPr>
        <p:sp>
          <p:nvSpPr>
            <p:cNvPr id="246" name=""/>
            <p:cNvSpPr/>
            <p:nvPr/>
          </p:nvSpPr>
          <p:spPr>
            <a:xfrm>
              <a:off x="69616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487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681960" y="3836880"/>
            <a:ext cx="345240" cy="368280"/>
            <a:chOff x="6681960" y="3836880"/>
            <a:chExt cx="345240" cy="368280"/>
          </a:xfrm>
        </p:grpSpPr>
        <p:sp>
          <p:nvSpPr>
            <p:cNvPr id="249" name=""/>
            <p:cNvSpPr/>
            <p:nvPr/>
          </p:nvSpPr>
          <p:spPr>
            <a:xfrm>
              <a:off x="669492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819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481880" y="3836880"/>
            <a:ext cx="397080" cy="368280"/>
            <a:chOff x="7481880" y="3836880"/>
            <a:chExt cx="397080" cy="368280"/>
          </a:xfrm>
        </p:grpSpPr>
        <p:sp>
          <p:nvSpPr>
            <p:cNvPr id="252" name=""/>
            <p:cNvSpPr/>
            <p:nvPr/>
          </p:nvSpPr>
          <p:spPr>
            <a:xfrm>
              <a:off x="7495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81880" y="38368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15480" y="3836880"/>
            <a:ext cx="333000" cy="368280"/>
            <a:chOff x="7215480" y="3836880"/>
            <a:chExt cx="333000" cy="368280"/>
          </a:xfrm>
        </p:grpSpPr>
        <p:sp>
          <p:nvSpPr>
            <p:cNvPr id="255" name=""/>
            <p:cNvSpPr/>
            <p:nvPr/>
          </p:nvSpPr>
          <p:spPr>
            <a:xfrm>
              <a:off x="72284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54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739280" y="3836880"/>
            <a:ext cx="333000" cy="368280"/>
            <a:chOff x="7739280" y="3836880"/>
            <a:chExt cx="333000" cy="368280"/>
          </a:xfrm>
        </p:grpSpPr>
        <p:sp>
          <p:nvSpPr>
            <p:cNvPr id="258" name=""/>
            <p:cNvSpPr/>
            <p:nvPr/>
          </p:nvSpPr>
          <p:spPr>
            <a:xfrm>
              <a:off x="77522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392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8272440" y="3836880"/>
            <a:ext cx="320760" cy="368280"/>
            <a:chOff x="8272440" y="3836880"/>
            <a:chExt cx="320760" cy="368280"/>
          </a:xfrm>
        </p:grpSpPr>
        <p:sp>
          <p:nvSpPr>
            <p:cNvPr id="261" name=""/>
            <p:cNvSpPr/>
            <p:nvPr/>
          </p:nvSpPr>
          <p:spPr>
            <a:xfrm>
              <a:off x="82857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7244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8006040" y="3836880"/>
            <a:ext cx="333000" cy="368280"/>
            <a:chOff x="8006040" y="3836880"/>
            <a:chExt cx="333000" cy="368280"/>
          </a:xfrm>
        </p:grpSpPr>
        <p:sp>
          <p:nvSpPr>
            <p:cNvPr id="264" name=""/>
            <p:cNvSpPr/>
            <p:nvPr/>
          </p:nvSpPr>
          <p:spPr>
            <a:xfrm>
              <a:off x="80190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06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405160" y="3836880"/>
            <a:ext cx="345240" cy="368280"/>
            <a:chOff x="2405160" y="3836880"/>
            <a:chExt cx="345240" cy="368280"/>
          </a:xfrm>
        </p:grpSpPr>
        <p:sp>
          <p:nvSpPr>
            <p:cNvPr id="267" name=""/>
            <p:cNvSpPr/>
            <p:nvPr/>
          </p:nvSpPr>
          <p:spPr>
            <a:xfrm>
              <a:off x="241776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051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33680" y="3836880"/>
            <a:ext cx="345240" cy="368280"/>
            <a:chOff x="1633680" y="3836880"/>
            <a:chExt cx="345240" cy="368280"/>
          </a:xfrm>
        </p:grpSpPr>
        <p:sp>
          <p:nvSpPr>
            <p:cNvPr id="270" name=""/>
            <p:cNvSpPr/>
            <p:nvPr/>
          </p:nvSpPr>
          <p:spPr>
            <a:xfrm>
              <a:off x="164664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3368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900080" y="3836880"/>
            <a:ext cx="358920" cy="368280"/>
            <a:chOff x="1900080" y="3836880"/>
            <a:chExt cx="358920" cy="368280"/>
          </a:xfrm>
        </p:grpSpPr>
        <p:sp>
          <p:nvSpPr>
            <p:cNvPr id="273" name=""/>
            <p:cNvSpPr/>
            <p:nvPr/>
          </p:nvSpPr>
          <p:spPr>
            <a:xfrm>
              <a:off x="1913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00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167200" y="3836880"/>
            <a:ext cx="345240" cy="368280"/>
            <a:chOff x="2167200" y="3836880"/>
            <a:chExt cx="345240" cy="368280"/>
          </a:xfrm>
        </p:grpSpPr>
        <p:sp>
          <p:nvSpPr>
            <p:cNvPr id="276" name=""/>
            <p:cNvSpPr/>
            <p:nvPr/>
          </p:nvSpPr>
          <p:spPr>
            <a:xfrm>
              <a:off x="218016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72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289240" y="502776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a goes to c, b goes to o,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E6015-0CA8-4535-A313-924975E57A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Starting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word does not have to start at the beginning of the plaintext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uld start at any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“count” could start at “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74960" y="4362480"/>
            <a:ext cx="8084160" cy="343440"/>
            <a:chOff x="174960" y="4362480"/>
            <a:chExt cx="8084160" cy="343440"/>
          </a:xfrm>
        </p:grpSpPr>
        <p:grpSp>
          <p:nvGrpSpPr>
            <p:cNvPr id="283" name=""/>
            <p:cNvGrpSpPr/>
            <p:nvPr/>
          </p:nvGrpSpPr>
          <p:grpSpPr>
            <a:xfrm>
              <a:off x="1348200" y="4362480"/>
              <a:ext cx="272160" cy="277920"/>
              <a:chOff x="1348200" y="4362480"/>
              <a:chExt cx="27216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135252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48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614960" y="4362480"/>
              <a:ext cx="272160" cy="277920"/>
              <a:chOff x="1614960" y="4362480"/>
              <a:chExt cx="27216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1619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614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881360" y="4362480"/>
              <a:ext cx="272160" cy="277920"/>
              <a:chOff x="1881360" y="4362480"/>
              <a:chExt cx="27216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18856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813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148120" y="4362480"/>
              <a:ext cx="272160" cy="277920"/>
              <a:chOff x="2148120" y="4362480"/>
              <a:chExt cx="27216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2152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48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405520" y="4362480"/>
              <a:ext cx="272160" cy="277920"/>
              <a:chOff x="2405520" y="4362480"/>
              <a:chExt cx="272160" cy="277920"/>
            </a:xfrm>
          </p:grpSpPr>
          <p:sp>
            <p:nvSpPr>
              <p:cNvPr id="296" name=""/>
              <p:cNvSpPr/>
              <p:nvPr/>
            </p:nvSpPr>
            <p:spPr>
              <a:xfrm>
                <a:off x="24098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4055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671920" y="4362480"/>
              <a:ext cx="272160" cy="277920"/>
              <a:chOff x="2671920" y="4362480"/>
              <a:chExt cx="272160" cy="277920"/>
            </a:xfrm>
          </p:grpSpPr>
          <p:sp>
            <p:nvSpPr>
              <p:cNvPr id="299" name=""/>
              <p:cNvSpPr/>
              <p:nvPr/>
            </p:nvSpPr>
            <p:spPr>
              <a:xfrm>
                <a:off x="26762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671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938680" y="4362480"/>
              <a:ext cx="272160" cy="277920"/>
              <a:chOff x="2938680" y="4362480"/>
              <a:chExt cx="272160" cy="277920"/>
            </a:xfrm>
          </p:grpSpPr>
          <p:sp>
            <p:nvSpPr>
              <p:cNvPr id="302" name=""/>
              <p:cNvSpPr/>
              <p:nvPr/>
            </p:nvSpPr>
            <p:spPr>
              <a:xfrm>
                <a:off x="29430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386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05440" y="4362480"/>
              <a:ext cx="272160" cy="277920"/>
              <a:chOff x="3205440" y="4362480"/>
              <a:chExt cx="272160" cy="277920"/>
            </a:xfrm>
          </p:grpSpPr>
          <p:sp>
            <p:nvSpPr>
              <p:cNvPr id="305" name=""/>
              <p:cNvSpPr/>
              <p:nvPr/>
            </p:nvSpPr>
            <p:spPr>
              <a:xfrm>
                <a:off x="3209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05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472200" y="4362480"/>
              <a:ext cx="272160" cy="277920"/>
              <a:chOff x="3472200" y="4362480"/>
              <a:chExt cx="272160" cy="277920"/>
            </a:xfrm>
          </p:grpSpPr>
          <p:sp>
            <p:nvSpPr>
              <p:cNvPr id="308" name=""/>
              <p:cNvSpPr/>
              <p:nvPr/>
            </p:nvSpPr>
            <p:spPr>
              <a:xfrm>
                <a:off x="3476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72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738960" y="4362480"/>
              <a:ext cx="272160" cy="277920"/>
              <a:chOff x="3738960" y="4362480"/>
              <a:chExt cx="272160" cy="277920"/>
            </a:xfrm>
          </p:grpSpPr>
          <p:sp>
            <p:nvSpPr>
              <p:cNvPr id="311" name=""/>
              <p:cNvSpPr/>
              <p:nvPr/>
            </p:nvSpPr>
            <p:spPr>
              <a:xfrm>
                <a:off x="3743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38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005720" y="4362480"/>
              <a:ext cx="272160" cy="277920"/>
              <a:chOff x="4005720" y="4362480"/>
              <a:chExt cx="272160" cy="277920"/>
            </a:xfrm>
          </p:grpSpPr>
          <p:sp>
            <p:nvSpPr>
              <p:cNvPr id="314" name=""/>
              <p:cNvSpPr/>
              <p:nvPr/>
            </p:nvSpPr>
            <p:spPr>
              <a:xfrm>
                <a:off x="4010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05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272120" y="4362480"/>
              <a:ext cx="272160" cy="277920"/>
              <a:chOff x="4272120" y="4362480"/>
              <a:chExt cx="272160" cy="277920"/>
            </a:xfrm>
          </p:grpSpPr>
          <p:sp>
            <p:nvSpPr>
              <p:cNvPr id="317" name=""/>
              <p:cNvSpPr/>
              <p:nvPr/>
            </p:nvSpPr>
            <p:spPr>
              <a:xfrm>
                <a:off x="4276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2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538880" y="4362480"/>
              <a:ext cx="272160" cy="277920"/>
              <a:chOff x="4538880" y="4362480"/>
              <a:chExt cx="272160" cy="277920"/>
            </a:xfrm>
          </p:grpSpPr>
          <p:sp>
            <p:nvSpPr>
              <p:cNvPr id="320" name=""/>
              <p:cNvSpPr/>
              <p:nvPr/>
            </p:nvSpPr>
            <p:spPr>
              <a:xfrm>
                <a:off x="4543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38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805640" y="4362480"/>
              <a:ext cx="272160" cy="277920"/>
              <a:chOff x="4805640" y="4362480"/>
              <a:chExt cx="272160" cy="277920"/>
            </a:xfrm>
          </p:grpSpPr>
          <p:sp>
            <p:nvSpPr>
              <p:cNvPr id="323" name=""/>
              <p:cNvSpPr/>
              <p:nvPr/>
            </p:nvSpPr>
            <p:spPr>
              <a:xfrm>
                <a:off x="4809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05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072400" y="4362480"/>
              <a:ext cx="272160" cy="277920"/>
              <a:chOff x="5072400" y="4362480"/>
              <a:chExt cx="272160" cy="277920"/>
            </a:xfrm>
          </p:grpSpPr>
          <p:sp>
            <p:nvSpPr>
              <p:cNvPr id="326" name=""/>
              <p:cNvSpPr/>
              <p:nvPr/>
            </p:nvSpPr>
            <p:spPr>
              <a:xfrm>
                <a:off x="5076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72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339160" y="4362480"/>
              <a:ext cx="272160" cy="277920"/>
              <a:chOff x="5339160" y="4362480"/>
              <a:chExt cx="272160" cy="277920"/>
            </a:xfrm>
          </p:grpSpPr>
          <p:sp>
            <p:nvSpPr>
              <p:cNvPr id="329" name=""/>
              <p:cNvSpPr/>
              <p:nvPr/>
            </p:nvSpPr>
            <p:spPr>
              <a:xfrm>
                <a:off x="53434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391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605920" y="4362480"/>
              <a:ext cx="272160" cy="277920"/>
              <a:chOff x="5605920" y="4362480"/>
              <a:chExt cx="272160" cy="277920"/>
            </a:xfrm>
          </p:grpSpPr>
          <p:sp>
            <p:nvSpPr>
              <p:cNvPr id="332" name=""/>
              <p:cNvSpPr/>
              <p:nvPr/>
            </p:nvSpPr>
            <p:spPr>
              <a:xfrm>
                <a:off x="56102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05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872320" y="4362480"/>
              <a:ext cx="272160" cy="277920"/>
              <a:chOff x="5872320" y="4362480"/>
              <a:chExt cx="272160" cy="277920"/>
            </a:xfrm>
          </p:grpSpPr>
          <p:sp>
            <p:nvSpPr>
              <p:cNvPr id="335" name=""/>
              <p:cNvSpPr/>
              <p:nvPr/>
            </p:nvSpPr>
            <p:spPr>
              <a:xfrm>
                <a:off x="58766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723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129720" y="4362480"/>
              <a:ext cx="272160" cy="277920"/>
              <a:chOff x="6129720" y="4362480"/>
              <a:chExt cx="272160" cy="277920"/>
            </a:xfrm>
          </p:grpSpPr>
          <p:sp>
            <p:nvSpPr>
              <p:cNvPr id="338" name=""/>
              <p:cNvSpPr/>
              <p:nvPr/>
            </p:nvSpPr>
            <p:spPr>
              <a:xfrm>
                <a:off x="6134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29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396480" y="4362480"/>
              <a:ext cx="272160" cy="277920"/>
              <a:chOff x="6396480" y="4362480"/>
              <a:chExt cx="272160" cy="277920"/>
            </a:xfrm>
          </p:grpSpPr>
          <p:sp>
            <p:nvSpPr>
              <p:cNvPr id="341" name=""/>
              <p:cNvSpPr/>
              <p:nvPr/>
            </p:nvSpPr>
            <p:spPr>
              <a:xfrm>
                <a:off x="640080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964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662880" y="4362480"/>
              <a:ext cx="272160" cy="277920"/>
              <a:chOff x="6662880" y="4362480"/>
              <a:chExt cx="27216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6667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62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929640" y="4362480"/>
              <a:ext cx="272160" cy="277920"/>
              <a:chOff x="6929640" y="4362480"/>
              <a:chExt cx="27216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6933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29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196400" y="4362480"/>
              <a:ext cx="272160" cy="277920"/>
              <a:chOff x="7196400" y="4362480"/>
              <a:chExt cx="27216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7200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96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453440" y="4362480"/>
              <a:ext cx="272160" cy="277920"/>
              <a:chOff x="7453440" y="4362480"/>
              <a:chExt cx="27216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7457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453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7720200" y="4362480"/>
              <a:ext cx="272160" cy="277920"/>
              <a:chOff x="7720200" y="4362480"/>
              <a:chExt cx="272160" cy="277920"/>
            </a:xfrm>
          </p:grpSpPr>
          <p:sp>
            <p:nvSpPr>
              <p:cNvPr id="356" name=""/>
              <p:cNvSpPr/>
              <p:nvPr/>
            </p:nvSpPr>
            <p:spPr>
              <a:xfrm>
                <a:off x="7724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20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986960" y="4362480"/>
              <a:ext cx="272160" cy="277920"/>
              <a:chOff x="7986960" y="4362480"/>
              <a:chExt cx="272160" cy="277920"/>
            </a:xfrm>
          </p:grpSpPr>
          <p:sp>
            <p:nvSpPr>
              <p:cNvPr id="359" name=""/>
              <p:cNvSpPr/>
              <p:nvPr/>
            </p:nvSpPr>
            <p:spPr>
              <a:xfrm>
                <a:off x="79912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986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74960" y="436860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5360" y="45975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034240" y="4638600"/>
            <a:ext cx="289800" cy="277920"/>
            <a:chOff x="5034240" y="4638600"/>
            <a:chExt cx="289800" cy="277920"/>
          </a:xfrm>
        </p:grpSpPr>
        <p:sp>
          <p:nvSpPr>
            <p:cNvPr id="364" name=""/>
            <p:cNvSpPr/>
            <p:nvPr/>
          </p:nvSpPr>
          <p:spPr>
            <a:xfrm>
              <a:off x="5047920" y="463860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342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320080" y="4638600"/>
            <a:ext cx="2939040" cy="277920"/>
            <a:chOff x="5320080" y="4638600"/>
            <a:chExt cx="2939040" cy="277920"/>
          </a:xfrm>
        </p:grpSpPr>
        <p:grpSp>
          <p:nvGrpSpPr>
            <p:cNvPr id="367" name=""/>
            <p:cNvGrpSpPr/>
            <p:nvPr/>
          </p:nvGrpSpPr>
          <p:grpSpPr>
            <a:xfrm>
              <a:off x="5320080" y="4638600"/>
              <a:ext cx="272160" cy="277920"/>
              <a:chOff x="5320080" y="4638600"/>
              <a:chExt cx="272160" cy="277920"/>
            </a:xfrm>
          </p:grpSpPr>
          <p:sp>
            <p:nvSpPr>
              <p:cNvPr id="368" name=""/>
              <p:cNvSpPr/>
              <p:nvPr/>
            </p:nvSpPr>
            <p:spPr>
              <a:xfrm>
                <a:off x="53326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008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5586840" y="4638600"/>
              <a:ext cx="272160" cy="277920"/>
              <a:chOff x="5586840" y="4638600"/>
              <a:chExt cx="272160" cy="277920"/>
            </a:xfrm>
          </p:grpSpPr>
          <p:sp>
            <p:nvSpPr>
              <p:cNvPr id="371" name=""/>
              <p:cNvSpPr/>
              <p:nvPr/>
            </p:nvSpPr>
            <p:spPr>
              <a:xfrm>
                <a:off x="5599440" y="4638600"/>
                <a:ext cx="25848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868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853240" y="4638600"/>
              <a:ext cx="272160" cy="277920"/>
              <a:chOff x="5853240" y="4638600"/>
              <a:chExt cx="272160" cy="277920"/>
            </a:xfrm>
          </p:grpSpPr>
          <p:sp>
            <p:nvSpPr>
              <p:cNvPr id="374" name=""/>
              <p:cNvSpPr/>
              <p:nvPr/>
            </p:nvSpPr>
            <p:spPr>
              <a:xfrm>
                <a:off x="58654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532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120000" y="4638600"/>
              <a:ext cx="272160" cy="277560"/>
              <a:chOff x="6120000" y="4638600"/>
              <a:chExt cx="272160" cy="277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1329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200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653520" y="4638600"/>
              <a:ext cx="272160" cy="277560"/>
              <a:chOff x="6653520" y="4638600"/>
              <a:chExt cx="272160" cy="277560"/>
            </a:xfrm>
          </p:grpSpPr>
          <p:sp>
            <p:nvSpPr>
              <p:cNvPr id="380" name=""/>
              <p:cNvSpPr/>
              <p:nvPr/>
            </p:nvSpPr>
            <p:spPr>
              <a:xfrm>
                <a:off x="6666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53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386760" y="4638600"/>
              <a:ext cx="272160" cy="277560"/>
              <a:chOff x="6386760" y="4638600"/>
              <a:chExt cx="272160" cy="277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3997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867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187040" y="4638600"/>
              <a:ext cx="272160" cy="277560"/>
              <a:chOff x="7187040" y="4638600"/>
              <a:chExt cx="272160" cy="277560"/>
            </a:xfrm>
          </p:grpSpPr>
          <p:sp>
            <p:nvSpPr>
              <p:cNvPr id="386" name=""/>
              <p:cNvSpPr/>
              <p:nvPr/>
            </p:nvSpPr>
            <p:spPr>
              <a:xfrm>
                <a:off x="7200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187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920280" y="4638600"/>
              <a:ext cx="272160" cy="277560"/>
              <a:chOff x="6920280" y="4638600"/>
              <a:chExt cx="272160" cy="277560"/>
            </a:xfrm>
          </p:grpSpPr>
          <p:sp>
            <p:nvSpPr>
              <p:cNvPr id="389" name=""/>
              <p:cNvSpPr/>
              <p:nvPr/>
            </p:nvSpPr>
            <p:spPr>
              <a:xfrm>
                <a:off x="6933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20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720200" y="4638600"/>
              <a:ext cx="272160" cy="277560"/>
              <a:chOff x="7720200" y="4638600"/>
              <a:chExt cx="272160" cy="277560"/>
            </a:xfrm>
          </p:grpSpPr>
          <p:sp>
            <p:nvSpPr>
              <p:cNvPr id="392" name=""/>
              <p:cNvSpPr/>
              <p:nvPr/>
            </p:nvSpPr>
            <p:spPr>
              <a:xfrm>
                <a:off x="77331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7202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453800" y="4638600"/>
              <a:ext cx="272160" cy="277560"/>
              <a:chOff x="7453800" y="4638600"/>
              <a:chExt cx="272160" cy="277560"/>
            </a:xfrm>
          </p:grpSpPr>
          <p:sp>
            <p:nvSpPr>
              <p:cNvPr id="395" name=""/>
              <p:cNvSpPr/>
              <p:nvPr/>
            </p:nvSpPr>
            <p:spPr>
              <a:xfrm>
                <a:off x="746640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4538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986960" y="4638600"/>
              <a:ext cx="272160" cy="277560"/>
              <a:chOff x="7986960" y="4638600"/>
              <a:chExt cx="272160" cy="277560"/>
            </a:xfrm>
          </p:grpSpPr>
          <p:sp>
            <p:nvSpPr>
              <p:cNvPr id="398" name=""/>
              <p:cNvSpPr/>
              <p:nvPr/>
            </p:nvSpPr>
            <p:spPr>
              <a:xfrm>
                <a:off x="79999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869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1347840" y="4638600"/>
            <a:ext cx="2662920" cy="277560"/>
            <a:chOff x="1347840" y="4638600"/>
            <a:chExt cx="2662920" cy="277560"/>
          </a:xfrm>
        </p:grpSpPr>
        <p:grpSp>
          <p:nvGrpSpPr>
            <p:cNvPr id="401" name=""/>
            <p:cNvGrpSpPr/>
            <p:nvPr/>
          </p:nvGrpSpPr>
          <p:grpSpPr>
            <a:xfrm>
              <a:off x="1347840" y="4638600"/>
              <a:ext cx="272160" cy="277560"/>
              <a:chOff x="1347840" y="4638600"/>
              <a:chExt cx="272160" cy="277560"/>
            </a:xfrm>
          </p:grpSpPr>
          <p:sp>
            <p:nvSpPr>
              <p:cNvPr id="402" name=""/>
              <p:cNvSpPr/>
              <p:nvPr/>
            </p:nvSpPr>
            <p:spPr>
              <a:xfrm>
                <a:off x="1360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47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881360" y="4638600"/>
              <a:ext cx="272160" cy="277560"/>
              <a:chOff x="1881360" y="4638600"/>
              <a:chExt cx="272160" cy="277560"/>
            </a:xfrm>
          </p:grpSpPr>
          <p:sp>
            <p:nvSpPr>
              <p:cNvPr id="405" name=""/>
              <p:cNvSpPr/>
              <p:nvPr/>
            </p:nvSpPr>
            <p:spPr>
              <a:xfrm>
                <a:off x="18943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813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614600" y="4638600"/>
              <a:ext cx="272160" cy="277560"/>
              <a:chOff x="1614600" y="4638600"/>
              <a:chExt cx="272160" cy="277560"/>
            </a:xfrm>
          </p:grpSpPr>
          <p:sp>
            <p:nvSpPr>
              <p:cNvPr id="408" name=""/>
              <p:cNvSpPr/>
              <p:nvPr/>
            </p:nvSpPr>
            <p:spPr>
              <a:xfrm>
                <a:off x="1627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14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2414520" y="4638600"/>
              <a:ext cx="272160" cy="277560"/>
              <a:chOff x="2414520" y="4638600"/>
              <a:chExt cx="272160" cy="277560"/>
            </a:xfrm>
          </p:grpSpPr>
          <p:sp>
            <p:nvSpPr>
              <p:cNvPr id="411" name=""/>
              <p:cNvSpPr/>
              <p:nvPr/>
            </p:nvSpPr>
            <p:spPr>
              <a:xfrm>
                <a:off x="2427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14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48120" y="4638600"/>
              <a:ext cx="272160" cy="277560"/>
              <a:chOff x="2148120" y="4638600"/>
              <a:chExt cx="272160" cy="277560"/>
            </a:xfrm>
          </p:grpSpPr>
          <p:sp>
            <p:nvSpPr>
              <p:cNvPr id="414" name=""/>
              <p:cNvSpPr/>
              <p:nvPr/>
            </p:nvSpPr>
            <p:spPr>
              <a:xfrm>
                <a:off x="216072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481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948040" y="4638600"/>
              <a:ext cx="272160" cy="277560"/>
              <a:chOff x="2948040" y="4638600"/>
              <a:chExt cx="272160" cy="277560"/>
            </a:xfrm>
          </p:grpSpPr>
          <p:sp>
            <p:nvSpPr>
              <p:cNvPr id="417" name=""/>
              <p:cNvSpPr/>
              <p:nvPr/>
            </p:nvSpPr>
            <p:spPr>
              <a:xfrm>
                <a:off x="2961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48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681280" y="4638600"/>
              <a:ext cx="272160" cy="277560"/>
              <a:chOff x="2681280" y="4638600"/>
              <a:chExt cx="272160" cy="277560"/>
            </a:xfrm>
          </p:grpSpPr>
          <p:sp>
            <p:nvSpPr>
              <p:cNvPr id="420" name=""/>
              <p:cNvSpPr/>
              <p:nvPr/>
            </p:nvSpPr>
            <p:spPr>
              <a:xfrm>
                <a:off x="2694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81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3205440" y="4638600"/>
              <a:ext cx="272160" cy="277560"/>
              <a:chOff x="3205440" y="4638600"/>
              <a:chExt cx="272160" cy="277560"/>
            </a:xfrm>
          </p:grpSpPr>
          <p:sp>
            <p:nvSpPr>
              <p:cNvPr id="423" name=""/>
              <p:cNvSpPr/>
              <p:nvPr/>
            </p:nvSpPr>
            <p:spPr>
              <a:xfrm>
                <a:off x="321804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2054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738600" y="4638600"/>
              <a:ext cx="272160" cy="277560"/>
              <a:chOff x="3738600" y="4638600"/>
              <a:chExt cx="272160" cy="277560"/>
            </a:xfrm>
          </p:grpSpPr>
          <p:sp>
            <p:nvSpPr>
              <p:cNvPr id="426" name=""/>
              <p:cNvSpPr/>
              <p:nvPr/>
            </p:nvSpPr>
            <p:spPr>
              <a:xfrm>
                <a:off x="3751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8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471840" y="4638600"/>
              <a:ext cx="272160" cy="277560"/>
              <a:chOff x="3471840" y="4638600"/>
              <a:chExt cx="272160" cy="277560"/>
            </a:xfrm>
          </p:grpSpPr>
          <p:sp>
            <p:nvSpPr>
              <p:cNvPr id="429" name=""/>
              <p:cNvSpPr/>
              <p:nvPr/>
            </p:nvSpPr>
            <p:spPr>
              <a:xfrm>
                <a:off x="3484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71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4776840" y="4638600"/>
            <a:ext cx="272160" cy="277920"/>
            <a:chOff x="4776840" y="4638600"/>
            <a:chExt cx="272160" cy="277920"/>
          </a:xfrm>
        </p:grpSpPr>
        <p:sp>
          <p:nvSpPr>
            <p:cNvPr id="432" name=""/>
            <p:cNvSpPr/>
            <p:nvPr/>
          </p:nvSpPr>
          <p:spPr>
            <a:xfrm>
              <a:off x="4789440" y="463860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768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005720" y="4638600"/>
            <a:ext cx="272160" cy="277560"/>
            <a:chOff x="4005720" y="4638600"/>
            <a:chExt cx="272160" cy="277560"/>
          </a:xfrm>
        </p:grpSpPr>
        <p:sp>
          <p:nvSpPr>
            <p:cNvPr id="435" name=""/>
            <p:cNvSpPr/>
            <p:nvPr/>
          </p:nvSpPr>
          <p:spPr>
            <a:xfrm>
              <a:off x="4018320" y="4638600"/>
              <a:ext cx="25848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057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272120" y="4638600"/>
            <a:ext cx="272160" cy="277560"/>
            <a:chOff x="4272120" y="4638600"/>
            <a:chExt cx="272160" cy="277560"/>
          </a:xfrm>
        </p:grpSpPr>
        <p:sp>
          <p:nvSpPr>
            <p:cNvPr id="438" name=""/>
            <p:cNvSpPr/>
            <p:nvPr/>
          </p:nvSpPr>
          <p:spPr>
            <a:xfrm>
              <a:off x="428508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721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538880" y="4638600"/>
            <a:ext cx="272160" cy="277560"/>
            <a:chOff x="4538880" y="4638600"/>
            <a:chExt cx="272160" cy="277560"/>
          </a:xfrm>
        </p:grpSpPr>
        <p:sp>
          <p:nvSpPr>
            <p:cNvPr id="441" name=""/>
            <p:cNvSpPr/>
            <p:nvPr/>
          </p:nvSpPr>
          <p:spPr>
            <a:xfrm>
              <a:off x="455184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3888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B6CD-6408-4854-B78C-364AC3DBB3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“visit” (note, the second “i” in visit is dropped below) starting at “a” and the plaintext is “next”, the applicatio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49360" y="4643280"/>
            <a:ext cx="7881120" cy="337320"/>
            <a:chOff x="549360" y="4643280"/>
            <a:chExt cx="7881120" cy="337320"/>
          </a:xfrm>
        </p:grpSpPr>
        <p:grpSp>
          <p:nvGrpSpPr>
            <p:cNvPr id="447" name=""/>
            <p:cNvGrpSpPr/>
            <p:nvPr/>
          </p:nvGrpSpPr>
          <p:grpSpPr>
            <a:xfrm>
              <a:off x="1519560" y="4647960"/>
              <a:ext cx="272160" cy="278280"/>
              <a:chOff x="1519560" y="4647960"/>
              <a:chExt cx="272160" cy="278280"/>
            </a:xfrm>
          </p:grpSpPr>
          <p:sp>
            <p:nvSpPr>
              <p:cNvPr id="448" name=""/>
              <p:cNvSpPr/>
              <p:nvPr/>
            </p:nvSpPr>
            <p:spPr>
              <a:xfrm>
                <a:off x="152388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519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786320" y="4647960"/>
              <a:ext cx="272160" cy="278280"/>
              <a:chOff x="1786320" y="4647960"/>
              <a:chExt cx="272160" cy="278280"/>
            </a:xfrm>
          </p:grpSpPr>
          <p:sp>
            <p:nvSpPr>
              <p:cNvPr id="451" name=""/>
              <p:cNvSpPr/>
              <p:nvPr/>
            </p:nvSpPr>
            <p:spPr>
              <a:xfrm>
                <a:off x="1790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86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052720" y="4647960"/>
              <a:ext cx="272160" cy="278280"/>
              <a:chOff x="2052720" y="4647960"/>
              <a:chExt cx="272160" cy="278280"/>
            </a:xfrm>
          </p:grpSpPr>
          <p:sp>
            <p:nvSpPr>
              <p:cNvPr id="454" name=""/>
              <p:cNvSpPr/>
              <p:nvPr/>
            </p:nvSpPr>
            <p:spPr>
              <a:xfrm>
                <a:off x="20570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0527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319480" y="4647960"/>
              <a:ext cx="272160" cy="278280"/>
              <a:chOff x="2319480" y="4647960"/>
              <a:chExt cx="272160" cy="2782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23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19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2576880" y="4647960"/>
              <a:ext cx="272160" cy="278280"/>
              <a:chOff x="2576880" y="4647960"/>
              <a:chExt cx="272160" cy="278280"/>
            </a:xfrm>
          </p:grpSpPr>
          <p:sp>
            <p:nvSpPr>
              <p:cNvPr id="460" name=""/>
              <p:cNvSpPr/>
              <p:nvPr/>
            </p:nvSpPr>
            <p:spPr>
              <a:xfrm>
                <a:off x="25812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768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843280" y="4647960"/>
              <a:ext cx="272160" cy="278280"/>
              <a:chOff x="2843280" y="4647960"/>
              <a:chExt cx="272160" cy="278280"/>
            </a:xfrm>
          </p:grpSpPr>
          <p:sp>
            <p:nvSpPr>
              <p:cNvPr id="463" name=""/>
              <p:cNvSpPr/>
              <p:nvPr/>
            </p:nvSpPr>
            <p:spPr>
              <a:xfrm>
                <a:off x="28476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43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110040" y="4647960"/>
              <a:ext cx="272160" cy="278280"/>
              <a:chOff x="3110040" y="4647960"/>
              <a:chExt cx="272160" cy="278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1143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00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3376800" y="4647960"/>
              <a:ext cx="272160" cy="278280"/>
              <a:chOff x="3376800" y="4647960"/>
              <a:chExt cx="272160" cy="278280"/>
            </a:xfrm>
          </p:grpSpPr>
          <p:sp>
            <p:nvSpPr>
              <p:cNvPr id="469" name=""/>
              <p:cNvSpPr/>
              <p:nvPr/>
            </p:nvSpPr>
            <p:spPr>
              <a:xfrm>
                <a:off x="3381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76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643560" y="4647960"/>
              <a:ext cx="272160" cy="278280"/>
              <a:chOff x="3643560" y="4647960"/>
              <a:chExt cx="272160" cy="278280"/>
            </a:xfrm>
          </p:grpSpPr>
          <p:sp>
            <p:nvSpPr>
              <p:cNvPr id="472" name=""/>
              <p:cNvSpPr/>
              <p:nvPr/>
            </p:nvSpPr>
            <p:spPr>
              <a:xfrm>
                <a:off x="3647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43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3910320" y="4647960"/>
              <a:ext cx="272160" cy="278280"/>
              <a:chOff x="3910320" y="4647960"/>
              <a:chExt cx="272160" cy="278280"/>
            </a:xfrm>
          </p:grpSpPr>
          <p:sp>
            <p:nvSpPr>
              <p:cNvPr id="475" name=""/>
              <p:cNvSpPr/>
              <p:nvPr/>
            </p:nvSpPr>
            <p:spPr>
              <a:xfrm>
                <a:off x="3914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10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177080" y="4647960"/>
              <a:ext cx="272160" cy="278280"/>
              <a:chOff x="4177080" y="4647960"/>
              <a:chExt cx="272160" cy="278280"/>
            </a:xfrm>
          </p:grpSpPr>
          <p:sp>
            <p:nvSpPr>
              <p:cNvPr id="478" name=""/>
              <p:cNvSpPr/>
              <p:nvPr/>
            </p:nvSpPr>
            <p:spPr>
              <a:xfrm>
                <a:off x="4181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77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4443480" y="4647960"/>
              <a:ext cx="272160" cy="278280"/>
              <a:chOff x="4443480" y="4647960"/>
              <a:chExt cx="272160" cy="278280"/>
            </a:xfrm>
          </p:grpSpPr>
          <p:sp>
            <p:nvSpPr>
              <p:cNvPr id="481" name=""/>
              <p:cNvSpPr/>
              <p:nvPr/>
            </p:nvSpPr>
            <p:spPr>
              <a:xfrm>
                <a:off x="4447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443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710240" y="4647960"/>
              <a:ext cx="272160" cy="278280"/>
              <a:chOff x="4710240" y="4647960"/>
              <a:chExt cx="272160" cy="278280"/>
            </a:xfrm>
          </p:grpSpPr>
          <p:sp>
            <p:nvSpPr>
              <p:cNvPr id="484" name=""/>
              <p:cNvSpPr/>
              <p:nvPr/>
            </p:nvSpPr>
            <p:spPr>
              <a:xfrm>
                <a:off x="4714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10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977000" y="4647960"/>
              <a:ext cx="272160" cy="278280"/>
              <a:chOff x="4977000" y="4647960"/>
              <a:chExt cx="272160" cy="278280"/>
            </a:xfrm>
          </p:grpSpPr>
          <p:sp>
            <p:nvSpPr>
              <p:cNvPr id="487" name=""/>
              <p:cNvSpPr/>
              <p:nvPr/>
            </p:nvSpPr>
            <p:spPr>
              <a:xfrm>
                <a:off x="4981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77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243760" y="4647960"/>
              <a:ext cx="272160" cy="278280"/>
              <a:chOff x="5243760" y="4647960"/>
              <a:chExt cx="272160" cy="278280"/>
            </a:xfrm>
          </p:grpSpPr>
          <p:sp>
            <p:nvSpPr>
              <p:cNvPr id="490" name=""/>
              <p:cNvSpPr/>
              <p:nvPr/>
            </p:nvSpPr>
            <p:spPr>
              <a:xfrm>
                <a:off x="5248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243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510520" y="4647960"/>
              <a:ext cx="272160" cy="278280"/>
              <a:chOff x="5510520" y="4647960"/>
              <a:chExt cx="272160" cy="278280"/>
            </a:xfrm>
          </p:grpSpPr>
          <p:sp>
            <p:nvSpPr>
              <p:cNvPr id="493" name=""/>
              <p:cNvSpPr/>
              <p:nvPr/>
            </p:nvSpPr>
            <p:spPr>
              <a:xfrm>
                <a:off x="55148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5105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5777280" y="4647960"/>
              <a:ext cx="272160" cy="278280"/>
              <a:chOff x="5777280" y="4647960"/>
              <a:chExt cx="272160" cy="278280"/>
            </a:xfrm>
          </p:grpSpPr>
          <p:sp>
            <p:nvSpPr>
              <p:cNvPr id="496" name=""/>
              <p:cNvSpPr/>
              <p:nvPr/>
            </p:nvSpPr>
            <p:spPr>
              <a:xfrm>
                <a:off x="57816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777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043680" y="4647960"/>
              <a:ext cx="272160" cy="278280"/>
              <a:chOff x="6043680" y="4647960"/>
              <a:chExt cx="272160" cy="278280"/>
            </a:xfrm>
          </p:grpSpPr>
          <p:sp>
            <p:nvSpPr>
              <p:cNvPr id="499" name=""/>
              <p:cNvSpPr/>
              <p:nvPr/>
            </p:nvSpPr>
            <p:spPr>
              <a:xfrm>
                <a:off x="60480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436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301080" y="4647960"/>
              <a:ext cx="272160" cy="278280"/>
              <a:chOff x="6301080" y="4647960"/>
              <a:chExt cx="272160" cy="278280"/>
            </a:xfrm>
          </p:grpSpPr>
          <p:sp>
            <p:nvSpPr>
              <p:cNvPr id="502" name=""/>
              <p:cNvSpPr/>
              <p:nvPr/>
            </p:nvSpPr>
            <p:spPr>
              <a:xfrm>
                <a:off x="6305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301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567840" y="4647960"/>
              <a:ext cx="272160" cy="278280"/>
              <a:chOff x="6567840" y="4647960"/>
              <a:chExt cx="272160" cy="278280"/>
            </a:xfrm>
          </p:grpSpPr>
          <p:sp>
            <p:nvSpPr>
              <p:cNvPr id="505" name=""/>
              <p:cNvSpPr/>
              <p:nvPr/>
            </p:nvSpPr>
            <p:spPr>
              <a:xfrm>
                <a:off x="657216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678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6834240" y="4647960"/>
              <a:ext cx="272160" cy="278280"/>
              <a:chOff x="6834240" y="4647960"/>
              <a:chExt cx="272160" cy="278280"/>
            </a:xfrm>
          </p:grpSpPr>
          <p:sp>
            <p:nvSpPr>
              <p:cNvPr id="508" name=""/>
              <p:cNvSpPr/>
              <p:nvPr/>
            </p:nvSpPr>
            <p:spPr>
              <a:xfrm>
                <a:off x="6838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34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7101000" y="4647960"/>
              <a:ext cx="272160" cy="278280"/>
              <a:chOff x="7101000" y="4647960"/>
              <a:chExt cx="272160" cy="278280"/>
            </a:xfrm>
          </p:grpSpPr>
          <p:sp>
            <p:nvSpPr>
              <p:cNvPr id="511" name=""/>
              <p:cNvSpPr/>
              <p:nvPr/>
            </p:nvSpPr>
            <p:spPr>
              <a:xfrm>
                <a:off x="7105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01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367760" y="4647960"/>
              <a:ext cx="272160" cy="278280"/>
              <a:chOff x="7367760" y="4647960"/>
              <a:chExt cx="272160" cy="278280"/>
            </a:xfrm>
          </p:grpSpPr>
          <p:sp>
            <p:nvSpPr>
              <p:cNvPr id="514" name=""/>
              <p:cNvSpPr/>
              <p:nvPr/>
            </p:nvSpPr>
            <p:spPr>
              <a:xfrm>
                <a:off x="7372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67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7624800" y="4647960"/>
              <a:ext cx="272160" cy="278280"/>
              <a:chOff x="7624800" y="4647960"/>
              <a:chExt cx="272160" cy="278280"/>
            </a:xfrm>
          </p:grpSpPr>
          <p:sp>
            <p:nvSpPr>
              <p:cNvPr id="517" name=""/>
              <p:cNvSpPr/>
              <p:nvPr/>
            </p:nvSpPr>
            <p:spPr>
              <a:xfrm>
                <a:off x="7629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24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891560" y="4647960"/>
              <a:ext cx="272160" cy="278280"/>
              <a:chOff x="7891560" y="4647960"/>
              <a:chExt cx="272160" cy="278280"/>
            </a:xfrm>
          </p:grpSpPr>
          <p:sp>
            <p:nvSpPr>
              <p:cNvPr id="520" name=""/>
              <p:cNvSpPr/>
              <p:nvPr/>
            </p:nvSpPr>
            <p:spPr>
              <a:xfrm>
                <a:off x="7895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91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8158320" y="4647960"/>
              <a:ext cx="272160" cy="278280"/>
              <a:chOff x="8158320" y="4647960"/>
              <a:chExt cx="272160" cy="278280"/>
            </a:xfrm>
          </p:grpSpPr>
          <p:sp>
            <p:nvSpPr>
              <p:cNvPr id="523" name=""/>
              <p:cNvSpPr/>
              <p:nvPr/>
            </p:nvSpPr>
            <p:spPr>
              <a:xfrm>
                <a:off x="81626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158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549360" y="464328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45320" y="4871880"/>
            <a:ext cx="7984800" cy="337320"/>
            <a:chOff x="445320" y="4871880"/>
            <a:chExt cx="7984800" cy="337320"/>
          </a:xfrm>
        </p:grpSpPr>
        <p:sp>
          <p:nvSpPr>
            <p:cNvPr id="527" name=""/>
            <p:cNvSpPr/>
            <p:nvPr/>
          </p:nvSpPr>
          <p:spPr>
            <a:xfrm>
              <a:off x="445320" y="4871880"/>
              <a:ext cx="105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pher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1519200" y="4924440"/>
              <a:ext cx="6910920" cy="277920"/>
              <a:chOff x="1519200" y="4924440"/>
              <a:chExt cx="6910920" cy="2779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205600" y="4924440"/>
                <a:ext cx="289800" cy="277920"/>
                <a:chOff x="5205600" y="4924440"/>
                <a:chExt cx="289800" cy="2779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219280" y="4924440"/>
                  <a:ext cx="27612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2056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5491080" y="4924440"/>
                <a:ext cx="2939040" cy="277920"/>
                <a:chOff x="5491080" y="4924440"/>
                <a:chExt cx="2939040" cy="277920"/>
              </a:xfrm>
            </p:grpSpPr>
            <p:grpSp>
              <p:nvGrpSpPr>
                <p:cNvPr id="533" name=""/>
                <p:cNvGrpSpPr/>
                <p:nvPr/>
              </p:nvGrpSpPr>
              <p:grpSpPr>
                <a:xfrm>
                  <a:off x="5491080" y="4924440"/>
                  <a:ext cx="272160" cy="277920"/>
                  <a:chOff x="5491080" y="4924440"/>
                  <a:chExt cx="272160" cy="27792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55036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49108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5757840" y="4924440"/>
                  <a:ext cx="272160" cy="277920"/>
                  <a:chOff x="5757840" y="4924440"/>
                  <a:chExt cx="272160" cy="27792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5770440" y="4924440"/>
                    <a:ext cx="25848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57578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6024240" y="4924440"/>
                  <a:ext cx="272160" cy="277920"/>
                  <a:chOff x="6024240" y="4924440"/>
                  <a:chExt cx="272160" cy="27792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60364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0242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6291000" y="4924440"/>
                  <a:ext cx="272160" cy="277560"/>
                  <a:chOff x="6291000" y="4924440"/>
                  <a:chExt cx="272160" cy="27756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63039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910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6824520" y="4924440"/>
                  <a:ext cx="272160" cy="277560"/>
                  <a:chOff x="6824520" y="4924440"/>
                  <a:chExt cx="272160" cy="27756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68374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8245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6557760" y="4924440"/>
                  <a:ext cx="272160" cy="277560"/>
                  <a:chOff x="6557760" y="4924440"/>
                  <a:chExt cx="272160" cy="2775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65707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5577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Q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7358040" y="4924440"/>
                  <a:ext cx="272160" cy="277560"/>
                  <a:chOff x="7358040" y="4924440"/>
                  <a:chExt cx="272160" cy="2775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73710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3580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W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7091280" y="4924440"/>
                  <a:ext cx="272160" cy="277560"/>
                  <a:chOff x="7091280" y="4924440"/>
                  <a:chExt cx="272160" cy="2775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71042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0912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7891200" y="4924440"/>
                  <a:ext cx="272160" cy="277560"/>
                  <a:chOff x="7891200" y="4924440"/>
                  <a:chExt cx="272160" cy="2775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7904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891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7624800" y="4924440"/>
                  <a:ext cx="272160" cy="277560"/>
                  <a:chOff x="7624800" y="4924440"/>
                  <a:chExt cx="272160" cy="27756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7637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624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8157960" y="4924440"/>
                  <a:ext cx="272160" cy="277560"/>
                  <a:chOff x="8157960" y="4924440"/>
                  <a:chExt cx="272160" cy="27756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8170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8157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Z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6" name=""/>
              <p:cNvGrpSpPr/>
              <p:nvPr/>
            </p:nvGrpSpPr>
            <p:grpSpPr>
              <a:xfrm>
                <a:off x="1519200" y="4924440"/>
                <a:ext cx="2662920" cy="277560"/>
                <a:chOff x="1519200" y="4924440"/>
                <a:chExt cx="2662920" cy="27756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1519200" y="4924440"/>
                  <a:ext cx="272160" cy="277560"/>
                  <a:chOff x="1519200" y="4924440"/>
                  <a:chExt cx="272160" cy="27756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1532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519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V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2052720" y="4924440"/>
                  <a:ext cx="272160" cy="277560"/>
                  <a:chOff x="2052720" y="4924440"/>
                  <a:chExt cx="272160" cy="2775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0656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0527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1785960" y="4924440"/>
                  <a:ext cx="272160" cy="277560"/>
                  <a:chOff x="1785960" y="4924440"/>
                  <a:chExt cx="272160" cy="2775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1798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1785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2585880" y="4924440"/>
                  <a:ext cx="272160" cy="277560"/>
                  <a:chOff x="2585880" y="4924440"/>
                  <a:chExt cx="272160" cy="2775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988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5858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2319480" y="4924440"/>
                  <a:ext cx="272160" cy="277560"/>
                  <a:chOff x="2319480" y="4924440"/>
                  <a:chExt cx="272160" cy="27756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233208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194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3119400" y="4924440"/>
                  <a:ext cx="272160" cy="277560"/>
                  <a:chOff x="3119400" y="4924440"/>
                  <a:chExt cx="272160" cy="27756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31323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1194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2852640" y="4924440"/>
                  <a:ext cx="272160" cy="277560"/>
                  <a:chOff x="2852640" y="4924440"/>
                  <a:chExt cx="272160" cy="277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28656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8526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3376800" y="4924440"/>
                  <a:ext cx="272160" cy="277560"/>
                  <a:chOff x="3376800" y="4924440"/>
                  <a:chExt cx="272160" cy="27756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3389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3376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3909960" y="4924440"/>
                  <a:ext cx="272160" cy="277560"/>
                  <a:chOff x="3909960" y="4924440"/>
                  <a:chExt cx="272160" cy="2775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3922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909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3643200" y="4924440"/>
                  <a:ext cx="272160" cy="277560"/>
                  <a:chOff x="3643200" y="4924440"/>
                  <a:chExt cx="272160" cy="2775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3656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3643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4948200" y="4924440"/>
                <a:ext cx="272160" cy="277920"/>
                <a:chOff x="4948200" y="4924440"/>
                <a:chExt cx="272160" cy="2779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960800" y="4924440"/>
                  <a:ext cx="25848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9482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4177080" y="4924440"/>
                <a:ext cx="272160" cy="277560"/>
                <a:chOff x="4177080" y="4924440"/>
                <a:chExt cx="272160" cy="277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4189680" y="4924440"/>
                  <a:ext cx="25848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1770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4443480" y="4924440"/>
                <a:ext cx="272160" cy="277560"/>
                <a:chOff x="4443480" y="4924440"/>
                <a:chExt cx="272160" cy="27756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445644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4434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4710240" y="4924440"/>
                <a:ext cx="272160" cy="277560"/>
                <a:chOff x="4710240" y="4924440"/>
                <a:chExt cx="272160" cy="2775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72320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71024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9" name=""/>
          <p:cNvSpPr/>
          <p:nvPr/>
        </p:nvSpPr>
        <p:spPr>
          <a:xfrm>
            <a:off x="3851640" y="3772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N E X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77640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067280" y="4124160"/>
            <a:ext cx="10000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990600" y="5210280"/>
            <a:ext cx="109548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704680" y="4105440"/>
            <a:ext cx="168588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695680" y="5162400"/>
            <a:ext cx="1628640" cy="62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18608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62440" y="4124160"/>
            <a:ext cx="29242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781160" y="5191200"/>
            <a:ext cx="2962440" cy="61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5957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24600" y="4105440"/>
            <a:ext cx="156204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219640" y="5257800"/>
            <a:ext cx="1447920" cy="54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241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C7F9A-F5E3-40D1-A9D8-A6BA40C364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lect the KeyWord cipher, CAP presents you with a KeyWord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231920" y="3317760"/>
            <a:ext cx="70009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5261040" y="3475080"/>
            <a:ext cx="1160280" cy="666720"/>
            <a:chOff x="5261040" y="3475080"/>
            <a:chExt cx="1160280" cy="666720"/>
          </a:xfrm>
        </p:grpSpPr>
        <p:sp>
          <p:nvSpPr>
            <p:cNvPr id="627" name=""/>
            <p:cNvSpPr/>
            <p:nvPr/>
          </p:nvSpPr>
          <p:spPr>
            <a:xfrm>
              <a:off x="5261040" y="3475080"/>
              <a:ext cx="116028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42760" y="349740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593720" y="2744640"/>
            <a:ext cx="1074960" cy="666720"/>
            <a:chOff x="1593720" y="2744640"/>
            <a:chExt cx="1074960" cy="666720"/>
          </a:xfrm>
        </p:grpSpPr>
        <p:sp>
          <p:nvSpPr>
            <p:cNvPr id="630" name=""/>
            <p:cNvSpPr/>
            <p:nvPr/>
          </p:nvSpPr>
          <p:spPr>
            <a:xfrm>
              <a:off x="1593720" y="2744640"/>
              <a:ext cx="107496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72920" y="276696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761560" y="2798640"/>
            <a:ext cx="867600" cy="641520"/>
            <a:chOff x="2761560" y="2798640"/>
            <a:chExt cx="867600" cy="641520"/>
          </a:xfrm>
        </p:grpSpPr>
        <p:sp>
          <p:nvSpPr>
            <p:cNvPr id="633" name=""/>
            <p:cNvSpPr/>
            <p:nvPr/>
          </p:nvSpPr>
          <p:spPr>
            <a:xfrm>
              <a:off x="2811600" y="2832120"/>
              <a:ext cx="817560" cy="598320"/>
            </a:xfrm>
            <a:prstGeom prst="wedgeRoundRectCallout">
              <a:avLst>
                <a:gd name="adj1" fmla="val -66504"/>
                <a:gd name="adj2" fmla="val 63791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61560" y="2798640"/>
              <a:ext cx="834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5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D6C6-F3AC-4BFF-9896-E7D537CE6C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54:20Z</dcterms:modified>
  <cp:revision>52</cp:revision>
  <dc:subject/>
  <dc:title>CAP Cryptographic Analysis Program</dc:title>
</cp:coreProperties>
</file>